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7B0-DA44-492A-95FB-38740262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D21-CDBA-431A-A84C-722E661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CB5-6CA6-4DBD-82A3-FB50A943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095-1BC5-49A3-9817-ACA0D201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FAB-BBA5-4900-9D80-8BF7890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FAB-E5FE-48D5-98F3-58CD489C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408-5C1E-4C83-878A-7D42C8BC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199-CC12-4768-AE07-0F14854E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97C-C045-42BD-ACE8-D3DB444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627-EAAE-4AE6-B84F-4BB41AD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0C0-1CAC-4903-953A-B3952CA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620-1B2A-4FFE-AC36-883D0DE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16D-E836-4C10-B2F5-625358866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ty is pawsing only to wonder about the un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043102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00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1:31:26Z</dcterms:created>
  <dc:creator>Beth</dc:creator>
  <dc:description/>
  <dc:language>en-US</dc:language>
  <cp:lastModifiedBy>Beth</cp:lastModifiedBy>
  <dcterms:modified xsi:type="dcterms:W3CDTF">2010-05-09T21:31:58Z</dcterms:modified>
  <cp:revision>1</cp:revision>
  <dc:subject/>
  <dc:title>Curiosity is pawsing only to wonder about the unknown</dc:title>
</cp:coreProperties>
</file>